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692A2-2A6E-44DF-AE1F-72BA2A2D0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5C827-06DF-497C-9187-F97C8F72B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60C68-5E11-4F1A-BEFD-6D09AC73E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967BE-20EE-4F20-9E80-2AACB07CE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50B364-32C0-4291-9964-B38E1A27BA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2EAF0-679D-4850-86C0-84326BBE0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8DE8E-4553-4B95-B171-F9C00D129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5E263-3369-4C5D-B2DF-7CCAB8541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8D7FB-6F63-4CBA-A63E-7363B3267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EF1C7-35A4-457A-BC0D-B8007DA72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ABB4D-9F6D-4960-94A7-45D4DC856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2E6E8-74CD-4B28-9F0B-AFF0F3C9A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EDD27-C726-4035-8EF2-8BCE86ACE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03B3D-666D-45BD-9BD9-14EF324F1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723FE-9BE3-4AA0-BBEA-A05AB08FE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BAFA33-50DB-4FA0-9E2D-A05ADADCD5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09C5FF-5C60-442C-B380-F6A54468CC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158F0-FB46-4D55-A352-6A2E9FBA2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EEF77-5C08-44A1-8BE1-F2056E72A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42574-EC98-4D51-B02A-7A7A3369E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22849-E94C-4105-85EC-E007F3E01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01BF0-EF3F-49A0-AA8E-DBBD86E28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ABA3A-B1E5-4782-80DC-09B065CAE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96DF2-8BCA-4572-88C9-8F424DB12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355DF-63DF-4200-B039-D9BB0AA7B5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0B2C0-08D3-482E-9EA2-5A194E78C177}"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九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再保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三、准确确定自留额</a:t>
            </a: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对保险公司来说，除了要遵守有关再保险的法律规定外，还要根据公司自身的偿付能力测定每一危险单位的自留额，即最大自留保险金额，这一点尤为重要。</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2800" spc="-1" strike="noStrike">
                <a:solidFill>
                  <a:srgbClr val="ffffcc"/>
                </a:solidFill>
                <a:latin typeface="楷体_GB2312"/>
                <a:ea typeface="楷体_GB2312"/>
              </a:rPr>
              <a:t>保险公司通常根据财务稳定性指标</a:t>
            </a:r>
            <a:r>
              <a:rPr b="1" lang="en-US" sz="2800" spc="-1" strike="noStrike">
                <a:solidFill>
                  <a:srgbClr val="ffffcc"/>
                </a:solidFill>
                <a:latin typeface="楷体_GB2312"/>
                <a:ea typeface="楷体_GB2312"/>
              </a:rPr>
              <a:t>k</a:t>
            </a:r>
            <a:r>
              <a:rPr b="1" lang="zh-CN" sz="2800" spc="-1" strike="noStrike">
                <a:solidFill>
                  <a:srgbClr val="ffffcc"/>
                </a:solidFill>
                <a:latin typeface="楷体_GB2312"/>
                <a:ea typeface="楷体_GB2312"/>
              </a:rPr>
              <a:t>和纯费率</a:t>
            </a:r>
            <a:r>
              <a:rPr b="1" lang="en-US" sz="2800" spc="-1" strike="noStrike">
                <a:solidFill>
                  <a:srgbClr val="ffffcc"/>
                </a:solidFill>
                <a:latin typeface="楷体_GB2312"/>
                <a:ea typeface="楷体_GB2312"/>
              </a:rPr>
              <a:t>q</a:t>
            </a:r>
            <a:r>
              <a:rPr b="1" lang="zh-CN" sz="2800" spc="-1" strike="noStrike">
                <a:solidFill>
                  <a:srgbClr val="ffffcc"/>
                </a:solidFill>
                <a:latin typeface="楷体_GB2312"/>
                <a:ea typeface="楷体_GB2312"/>
              </a:rPr>
              <a:t>（或损失率</a:t>
            </a:r>
            <a:r>
              <a:rPr b="1" lang="en-US" sz="2800" spc="-1" strike="noStrike">
                <a:solidFill>
                  <a:srgbClr val="ffffcc"/>
                </a:solidFill>
                <a:latin typeface="楷体_GB2312"/>
                <a:ea typeface="楷体_GB2312"/>
              </a:rPr>
              <a:t>p</a:t>
            </a:r>
            <a:r>
              <a:rPr b="1" lang="zh-CN" sz="2800" spc="-1" strike="noStrike">
                <a:solidFill>
                  <a:srgbClr val="ffffcc"/>
                </a:solidFill>
                <a:latin typeface="楷体_GB2312"/>
                <a:ea typeface="楷体_GB2312"/>
              </a:rPr>
              <a:t>）测算出最大的自留额，其公式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自留额≈</a:t>
            </a:r>
            <a:r>
              <a:rPr b="1" lang="en-US" sz="2800" spc="-1" strike="noStrike">
                <a:solidFill>
                  <a:srgbClr val="ffffcc"/>
                </a:solidFill>
                <a:latin typeface="楷体_GB2312"/>
                <a:ea typeface="楷体_GB2312"/>
              </a:rPr>
              <a:t>2k</a:t>
            </a:r>
            <a:r>
              <a:rPr b="1" lang="en-US" sz="2800" spc="-1" strike="noStrike" baseline="30000">
                <a:solidFill>
                  <a:srgbClr val="ffffcc"/>
                </a:solidFill>
                <a:latin typeface="楷体_GB2312"/>
                <a:ea typeface="楷体_GB2312"/>
              </a:rPr>
              <a:t>2</a:t>
            </a:r>
            <a:r>
              <a:rPr b="1" lang="en-US" sz="2800" spc="-1" strike="noStrike">
                <a:solidFill>
                  <a:srgbClr val="ffffcc"/>
                </a:solidFill>
                <a:latin typeface="楷体_GB2312"/>
                <a:ea typeface="楷体_GB2312"/>
              </a:rPr>
              <a:t>p</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自留额的确定，运用上述公式进行数学分析无疑比较科学合理，但在实际业务中，保险公司不仅需要从数理方面考虑，还需要顾及各方面的客观条件。</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经济周期。</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保险公司的财务状况。</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3</a:t>
            </a:r>
            <a:r>
              <a:rPr b="1" lang="zh-CN" sz="2400" spc="-1" strike="noStrike">
                <a:solidFill>
                  <a:srgbClr val="ffffcc"/>
                </a:solidFill>
                <a:latin typeface="楷体_GB2312"/>
                <a:ea typeface="楷体_GB2312"/>
              </a:rPr>
              <a:t>）业务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4</a:t>
            </a:r>
            <a:r>
              <a:rPr b="1" lang="zh-CN" sz="2400" spc="-1" strike="noStrike">
                <a:solidFill>
                  <a:srgbClr val="ffffcc"/>
                </a:solidFill>
                <a:latin typeface="楷体_GB2312"/>
                <a:ea typeface="楷体_GB2312"/>
              </a:rPr>
              <a:t>）业务质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5</a:t>
            </a:r>
            <a:r>
              <a:rPr b="1" lang="zh-CN" sz="2400" spc="-1" strike="noStrike">
                <a:solidFill>
                  <a:srgbClr val="ffffcc"/>
                </a:solidFill>
                <a:latin typeface="楷体_GB2312"/>
                <a:ea typeface="楷体_GB2312"/>
              </a:rPr>
              <a:t>）保险标的本身风险的大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6</a:t>
            </a:r>
            <a:r>
              <a:rPr b="1" lang="zh-CN" sz="2400" spc="-1" strike="noStrike">
                <a:solidFill>
                  <a:srgbClr val="ffffcc"/>
                </a:solidFill>
                <a:latin typeface="楷体_GB2312"/>
                <a:ea typeface="楷体_GB2312"/>
              </a:rPr>
              <a:t>）风险结构。</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7</a:t>
            </a:r>
            <a:r>
              <a:rPr b="1" lang="zh-CN" sz="2400" spc="-1" strike="noStrike">
                <a:solidFill>
                  <a:srgbClr val="ffffcc"/>
                </a:solidFill>
                <a:latin typeface="楷体_GB2312"/>
                <a:ea typeface="楷体_GB2312"/>
              </a:rPr>
              <a:t>）风险累积。</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8</a:t>
            </a:r>
            <a:r>
              <a:rPr b="1" lang="zh-CN" sz="2400" spc="-1" strike="noStrike">
                <a:solidFill>
                  <a:srgbClr val="ffffcc"/>
                </a:solidFill>
                <a:latin typeface="楷体_GB2312"/>
                <a:ea typeface="楷体_GB2312"/>
              </a:rPr>
              <a:t>）再保险安排。</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9</a:t>
            </a:r>
            <a:r>
              <a:rPr b="1" lang="zh-CN" sz="2400" spc="-1" strike="noStrike">
                <a:solidFill>
                  <a:srgbClr val="ffffcc"/>
                </a:solidFill>
                <a:latin typeface="楷体_GB2312"/>
                <a:ea typeface="楷体_GB2312"/>
              </a:rPr>
              <a:t>）再保险费。</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国家相关保险法律和法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保险市场开放程度和监管特点</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1128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合理选择再保险人</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商订再保险合同</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再保险业务的经营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风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分出公司的风险管理</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分入公司的风险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分入业务管理的关键在于分入业务承保前的审查、承保额的确定、累积责任的控制和转分保办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行政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再保险的行政管理包括国家对再保险业的宏观管理和保险公司自身的管理两部分。</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一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运用的动因分析</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4360" y="404280"/>
            <a:ext cx="7772400" cy="5472360"/>
          </a:xfrm>
          <a:prstGeom prst="rect">
            <a:avLst/>
          </a:prstGeom>
          <a:noFill/>
          <a:ln w="0">
            <a:noFill/>
          </a:ln>
        </p:spPr>
        <p:txBody>
          <a:bodyPr lIns="92160" rIns="92160" tIns="46080" bIns="46080" anchor="t">
            <a:normAutofit fontScale="97000"/>
          </a:bodyPr>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复习思考题</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临时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合约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成数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溢额再保险   险位超赔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事故超赔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赔付率超赔再保险</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分析再保险运用的技术性动因和非技术性动因。</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简述成数再保险和溢额再保险的优缺点。</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a:t>
            </a:r>
            <a:endParaRPr b="0" lang="en-US" sz="26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保险公司在再保险方式选择时应注意哪些问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分析影响保险公司自留额确定的各种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应如何选择可靠的再保险接受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入公司和分出公司对再保险业务风险管理的关键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技术性动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再保险可以扩大保险人的承保能力</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可以控制保险人的责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再保险能够均衡保险人的业务结构 </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互惠交换业务更加稳定了保险公司经营</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再保险可以促进保险人加强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97164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非技术性动因</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国家政策、法律、法规的制约</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人经营实力、技术及提供的服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二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安排</a:t>
            </a:r>
            <a:endParaRPr b="0" lang="en-US" sz="2800" spc="-1" strike="noStrike">
              <a:solidFill>
                <a:srgbClr val="ffffcc"/>
              </a:solidFill>
              <a:latin typeface="Times New Roman"/>
            </a:endParaRPr>
          </a:p>
          <a:p>
            <a:pPr marL="343080" indent="-343080" algn="ct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临时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合约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预约再保险的特点和安排</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306864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三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规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324000" y="1989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分析评估风险损失</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风险的分析包括大的风险的识别、中小风险的损失变动、一次事故中的损失累积和一个业务年度的损失累积四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科学选择再保险方式</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一）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4:04Z</dcterms:modified>
  <cp:revision>55</cp:revision>
  <dc:subject/>
  <dc:title>没有幻灯片标题</dc:title>
</cp:coreProperties>
</file>